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C45-B8CB-488D-804C-FD898B94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55B-5016-465B-8736-F18E1011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1048-F540-4EA3-83F6-17AAA303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0DF-0482-4DEA-BE28-55DB99E5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BDB-BF2F-4EE3-B672-540D9982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8597-1934-4F76-B75B-7F3B4CE2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6F65-4A28-4E9F-9250-55611745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9724-78D4-4D2D-B877-2428BD72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7B8D-512E-4F0B-9E8B-8770F829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4F7E-A641-46C9-9302-6C2C7B49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A01E-8B64-4662-96F0-7F95DB92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8426-071E-4915-8593-557139BB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B0EA-8C8C-4658-AADE-18212081E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datas/zhivotnye/Domashnie-5.files/0009-009-Korova.jpg" TargetMode="External"/><Relationship Id="rId3" Type="http://schemas.openxmlformats.org/officeDocument/2006/relationships/hyperlink" Target="http://art5.karelia.ru/photo/16/161/8963.jpg" TargetMode="External"/><Relationship Id="rId4" Type="http://schemas.openxmlformats.org/officeDocument/2006/relationships/hyperlink" Target="http://www.doodoo.ru/uploads/posts/2009-04/fox-54.jpg" TargetMode="External"/><Relationship Id="rId5" Type="http://schemas.openxmlformats.org/officeDocument/2006/relationships/hyperlink" Target="http://www.myjulia.ru/data/cache/2010/04/21/396815_8221-800x600.jpg" TargetMode="External"/><Relationship Id="rId6" Type="http://schemas.openxmlformats.org/officeDocument/2006/relationships/hyperlink" Target="http://dic.academic.ru/pictures/wiki/files/80/Passer_domesticus_m.jpg" TargetMode="External"/><Relationship Id="rId7" Type="http://schemas.openxmlformats.org/officeDocument/2006/relationships/hyperlink" Target="http://www.kinfolksacrosstheriver.com/000802_c815_0056_cslp.jpg" TargetMode="External"/><Relationship Id="rId8" Type="http://schemas.openxmlformats.org/officeDocument/2006/relationships/hyperlink" Target="http://podari-ulibku.narod.ru/os18088.jpg" TargetMode="External"/><Relationship Id="rId9" Type="http://schemas.openxmlformats.org/officeDocument/2006/relationships/hyperlink" Target="http://bird.geoman.ru/books/item/f00/s00/z0000003/st027.shtml" TargetMode="External"/><Relationship Id="rId10" Type="http://schemas.openxmlformats.org/officeDocument/2006/relationships/hyperlink" Target="http://www.collection-figurines.com/images/schleich-chevrenaine13601.jpg" TargetMode="Externa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47760" y="3808440"/>
            <a:ext cx="854388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дирование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80000" y="3357720"/>
            <a:ext cx="1404720" cy="250560"/>
          </a:xfrm>
          <a:prstGeom prst="rect">
            <a:avLst/>
          </a:prstGeom>
          <a:solidFill>
            <a:srgbClr val="ffa8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3249720"/>
            <a:ext cx="14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2500"/>
                </a:solidFill>
                <a:latin typeface="Times New Roman"/>
                <a:ea typeface="Times New Roman"/>
              </a:rPr>
              <a:t>част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1881360"/>
            <a:ext cx="755640" cy="4680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31640" y="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268280"/>
            <a:ext cx="914400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98320" indent="-34272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чев А. В., Горина К. И., Волкова Т. О. Информатика в играх и задачах. 2-й класс в 2-х частях: Учебник-тетрадь, часть 2. – М.: Баласс, 2005. – 80с. 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BN5-85939-135-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900igr.net/datas/zhivotnye/Domashnie-5.files/0009-009-Korova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art5.karelia.ru/photo/16/161/8963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росё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doodoo.ru/uploads/posts/2009-04/fox-54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myjulia.ru/data/cache/2010/04/21/396815_8221-800x600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окод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dic.academic.ru/pictures/wiki/files/80/Passer_domesticus_m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роб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www.kinfolksacrosstheriver.com/000802_c815_0056_cslp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т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podari-ulibku.narod.ru/os18088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bird.geoman.ru/books/item/f00/s00/z0000003/st027.shtml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аст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www.collection-figurines.com/images/schleich-chevrenaine13601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.labirint.ru/images/comments_pic/0838/02lab949v1221627212.jpg кур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brocgaus.ru/pictures/010/379_1.jpg  бегем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cosystema.ru/08nature/mamm/048.jpg вол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cosystema.ru/07referats/tiger/014.jpg тиг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708360" y="907920"/>
            <a:ext cx="4535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зентацию подготовила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211640" y="1773360"/>
            <a:ext cx="388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Arial"/>
              </a:rPr>
              <a:t>Поспелова Г.В.</a:t>
            </a:r>
            <a:endParaRPr b="0" i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293" name=""/>
          <p:cNvSpPr txBox="1"/>
          <p:nvPr/>
        </p:nvSpPr>
        <p:spPr>
          <a:xfrm rot="21430800">
            <a:off x="684000" y="5157360"/>
            <a:ext cx="7920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Желаю всем приятного просмотра!!!</a:t>
            </a:r>
            <a:endParaRPr b="1" i="1" lang="en-US" sz="40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48000" y="2781360"/>
            <a:ext cx="5327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Учитель информатики МОУ «СОШ № 20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г. Новомосковс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Тульская область,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201600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7280" y="368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шифруй слова и закрась соответствующие предм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333360"/>
            <a:ext cx="46836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79640" y="297000"/>
            <a:ext cx="774036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9640" y="1592280"/>
          <a:ext cx="4068720" cy="2549520"/>
        </p:xfrm>
        <a:graphic>
          <a:graphicData uri="http://schemas.openxmlformats.org/drawingml/2006/table">
            <a:tbl>
              <a:tblPr/>
              <a:tblGrid>
                <a:gridCol w="647640"/>
                <a:gridCol w="576360"/>
                <a:gridCol w="504720"/>
                <a:gridCol w="576360"/>
                <a:gridCol w="574560"/>
                <a:gridCol w="613080"/>
                <a:gridCol w="57600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71928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4184640"/>
            <a:ext cx="360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6000" y="224172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1736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368136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3176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2708280"/>
            <a:ext cx="360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59280" y="1592280"/>
            <a:ext cx="1488960" cy="1162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96000" y="2924280"/>
            <a:ext cx="1050840" cy="1154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867280" y="2384280"/>
            <a:ext cx="1560600" cy="183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451640" y="166536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920000" y="2997360"/>
            <a:ext cx="689040" cy="105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395280" y="4797360"/>
          <a:ext cx="4176720" cy="100800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00360"/>
                <a:gridCol w="9000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,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111640" y="4797360"/>
          <a:ext cx="2927520" cy="1000080"/>
        </p:xfrm>
        <a:graphic>
          <a:graphicData uri="http://schemas.openxmlformats.org/drawingml/2006/table">
            <a:tbl>
              <a:tblPr/>
              <a:tblGrid>
                <a:gridCol w="911160"/>
                <a:gridCol w="1008000"/>
                <a:gridCol w="10083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3164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276360" y="1952280"/>
            <a:ext cx="36360" cy="24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844640"/>
            <a:ext cx="251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24000" y="530064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6836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1600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456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1280" y="5337000"/>
            <a:ext cx="57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530064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51280" y="533700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19640" y="533556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9272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9640" y="533556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92720" y="540864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8000" y="533700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1080" y="5373720"/>
            <a:ext cx="57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1655640" y="2491920"/>
            <a:ext cx="36720" cy="18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1640" y="2421000"/>
            <a:ext cx="324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384280"/>
            <a:ext cx="90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42920" y="1915920"/>
            <a:ext cx="0" cy="24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584360" y="3465360"/>
            <a:ext cx="0" cy="93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1640" y="1881360"/>
            <a:ext cx="358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1640" y="3357720"/>
            <a:ext cx="90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2997360"/>
            <a:ext cx="826920" cy="1152360"/>
          </a:xfrm>
          <a:prstGeom prst="rect">
            <a:avLst/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0360" y="1700280"/>
            <a:ext cx="1439640" cy="1224000"/>
          </a:xfrm>
          <a:prstGeom prst="rect">
            <a:avLst/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116000" y="2529000"/>
            <a:ext cx="0" cy="19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333360"/>
            <a:ext cx="46836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79640" y="297000"/>
            <a:ext cx="266364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33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гадай реб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1047600" cy="1871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184720" y="260280"/>
            <a:ext cx="1047960" cy="187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1047960" cy="1871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16360" y="225360"/>
            <a:ext cx="5076720" cy="201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04000" y="166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72360" y="47628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ри кота 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6720" y="198900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3280" y="2023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1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7080" y="198900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2100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357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335772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3392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920" y="461628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1640" y="465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2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58920" y="465300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689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4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Р один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14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емь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1640" y="2781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ри б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32000" y="2816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 п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1640" y="4041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О два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58920" y="4113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О сем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3681360"/>
            <a:ext cx="1513080" cy="172728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1727280"/>
              <a:gd name="textAreaBottom" fmla="*/ 1653480 h 1727280"/>
            </a:gdLst>
            <a:ahLst/>
            <a:rect l="textAreaLeft" t="textAreaTop" r="textAreaRight" b="textAreaBottom"/>
            <a:pathLst>
              <a:path w="21600" h="24657">
                <a:moveTo>
                  <a:pt x="3600" y="0"/>
                </a:moveTo>
                <a:arcTo wR="3600" hR="3600" stAng="16200000" swAng="-5400000"/>
                <a:lnTo>
                  <a:pt x="0" y="21057"/>
                </a:lnTo>
                <a:arcTo wR="3600" hR="3600" stAng="10800000" swAng="-5400000"/>
                <a:lnTo>
                  <a:pt x="18000" y="246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72000" y="3500280"/>
            <a:ext cx="1836720" cy="2052720"/>
          </a:xfrm>
          <a:custGeom>
            <a:avLst/>
            <a:gdLst>
              <a:gd name="textAreaLeft" fmla="*/ 89640 w 1836720"/>
              <a:gd name="textAreaRight" fmla="*/ 1747080 w 1836720"/>
              <a:gd name="textAreaTop" fmla="*/ 89640 h 2052720"/>
              <a:gd name="textAreaBottom" fmla="*/ 1963080 h 2052720"/>
            </a:gdLst>
            <a:ahLst/>
            <a:rect l="textAreaLeft" t="textAreaTop" r="textAreaRight" b="textAreaBottom"/>
            <a:pathLst>
              <a:path w="21600" h="24140">
                <a:moveTo>
                  <a:pt x="3600" y="0"/>
                </a:moveTo>
                <a:arcTo wR="3600" hR="3600" stAng="16200000" swAng="-5400000"/>
                <a:lnTo>
                  <a:pt x="0" y="20540"/>
                </a:lnTo>
                <a:arcTo wR="3600" hR="3600" stAng="10800000" swAng="-5400000"/>
                <a:lnTo>
                  <a:pt x="18000" y="24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0360" y="3716280"/>
            <a:ext cx="1476360" cy="1765440"/>
          </a:xfrm>
          <a:custGeom>
            <a:avLst/>
            <a:gdLst>
              <a:gd name="textAreaLeft" fmla="*/ 72000 w 1476360"/>
              <a:gd name="textAreaRight" fmla="*/ 1404360 w 1476360"/>
              <a:gd name="textAreaTop" fmla="*/ 72000 h 1765440"/>
              <a:gd name="textAreaBottom" fmla="*/ 1693440 h 1765440"/>
            </a:gdLst>
            <a:ahLst/>
            <a:rect l="textAreaLeft" t="textAreaTop" r="textAreaRight" b="textAreaBottom"/>
            <a:pathLst>
              <a:path w="21600" h="25828">
                <a:moveTo>
                  <a:pt x="3600" y="0"/>
                </a:moveTo>
                <a:arcTo wR="3600" hR="3600" stAng="16200000" swAng="-5400000"/>
                <a:lnTo>
                  <a:pt x="0" y="22228"/>
                </a:lnTo>
                <a:arcTo wR="3600" hR="3600" stAng="10800000" swAng="-5400000"/>
                <a:lnTo>
                  <a:pt x="18000" y="25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9280" y="3933720"/>
            <a:ext cx="1332000" cy="1332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03640" y="436572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5553000"/>
            <a:ext cx="180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О 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40720" y="414972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75640" y="393372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573880" y="3716280"/>
            <a:ext cx="1596960" cy="1765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84720" y="4508640"/>
            <a:ext cx="7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43640" y="2924280"/>
            <a:ext cx="151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коро в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43640" y="562464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на Р 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87280" y="368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7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первым буквам написанных слов прочти нов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76360" y="1844640"/>
          <a:ext cx="8229600" cy="8650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324000" y="1125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, РЫБА, ОКУНЬ, ЛЕС, ИГЛА, 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6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79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2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0920" y="195264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04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303372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8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крась каждую букву своим цветом. Зашифруй цветными квадратиками слова: ДЕЛО, КИНО, М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92000" y="4005360"/>
          <a:ext cx="6732720" cy="865080"/>
        </p:xfrm>
        <a:graphic>
          <a:graphicData uri="http://schemas.openxmlformats.org/drawingml/2006/table">
            <a:tbl>
              <a:tblPr/>
              <a:tblGrid>
                <a:gridCol w="576360"/>
                <a:gridCol w="676440"/>
                <a:gridCol w="690480"/>
                <a:gridCol w="684360"/>
                <a:gridCol w="647640"/>
                <a:gridCol w="649080"/>
                <a:gridCol w="684360"/>
                <a:gridCol w="755640"/>
                <a:gridCol w="684000"/>
                <a:gridCol w="6843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8269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56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407664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0872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12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927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55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87280" y="368280"/>
            <a:ext cx="853272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3068640"/>
            <a:ext cx="85327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2000" y="36828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3068640"/>
            <a:ext cx="0" cy="39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58560" y="3500280"/>
            <a:ext cx="54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2000" y="4005360"/>
            <a:ext cx="576360" cy="86364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16000" y="4005360"/>
            <a:ext cx="719280" cy="86364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35280" y="4005360"/>
            <a:ext cx="684360" cy="86364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4005360"/>
            <a:ext cx="647640" cy="86364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67280" y="4005360"/>
            <a:ext cx="647640" cy="86364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6360" y="4005360"/>
            <a:ext cx="684360" cy="86364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00720" y="4005360"/>
            <a:ext cx="755640" cy="86364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56360" y="4005360"/>
            <a:ext cx="720720" cy="86364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77080" y="4005360"/>
            <a:ext cx="682560" cy="86364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49236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227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1368360" y="4005360"/>
            <a:ext cx="647640" cy="86364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5661000"/>
            <a:ext cx="53964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5661000"/>
            <a:ext cx="576360" cy="5763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71640" y="5661000"/>
            <a:ext cx="468360" cy="5763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5661000"/>
            <a:ext cx="53964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5661000"/>
            <a:ext cx="54000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32360" y="5661000"/>
            <a:ext cx="539640" cy="57636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5661000"/>
            <a:ext cx="504720" cy="57636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5661000"/>
            <a:ext cx="57492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27640" y="5661000"/>
            <a:ext cx="540000" cy="57636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67640" y="5661000"/>
            <a:ext cx="54108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08720" y="5661000"/>
            <a:ext cx="50328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12000" y="5661000"/>
            <a:ext cx="540000" cy="576360"/>
          </a:xfrm>
          <a:prstGeom prst="rect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87280" y="404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первым буквам написанных слов прочти нов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76360" y="1844640"/>
          <a:ext cx="8229600" cy="8650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24000" y="1125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ЧАШКА, ЕНОТ, БАРС, НОТА, ИРИС, К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63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6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79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2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0920" y="195264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04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303372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чти слова, зашифрованные цветными квадрат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92000" y="4005360"/>
          <a:ext cx="6732720" cy="865080"/>
        </p:xfrm>
        <a:graphic>
          <a:graphicData uri="http://schemas.openxmlformats.org/drawingml/2006/table">
            <a:tbl>
              <a:tblPr/>
              <a:tblGrid>
                <a:gridCol w="576360"/>
                <a:gridCol w="676440"/>
                <a:gridCol w="690480"/>
                <a:gridCol w="684360"/>
                <a:gridCol w="647640"/>
                <a:gridCol w="649080"/>
                <a:gridCol w="684360"/>
                <a:gridCol w="755640"/>
                <a:gridCol w="684000"/>
                <a:gridCol w="6843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8269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400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56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407664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12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927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55640" y="5661000"/>
          <a:ext cx="159372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920"/>
                <a:gridCol w="50292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287280" y="368280"/>
            <a:ext cx="853272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3068640"/>
            <a:ext cx="853272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2000" y="4005360"/>
            <a:ext cx="576360" cy="86364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50920" y="4005360"/>
            <a:ext cx="684360" cy="86364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35280" y="4005360"/>
            <a:ext cx="684360" cy="86364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19640" y="4005360"/>
            <a:ext cx="647640" cy="86364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4005360"/>
            <a:ext cx="647640" cy="86364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4005360"/>
            <a:ext cx="684360" cy="86364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00720" y="4005360"/>
            <a:ext cx="755640" cy="86364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4005360"/>
            <a:ext cx="684000" cy="86364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0360" y="4005360"/>
            <a:ext cx="719280" cy="86364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49236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227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368360" y="4005360"/>
            <a:ext cx="682560" cy="86364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12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5661000"/>
            <a:ext cx="541440" cy="5745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661000"/>
            <a:ext cx="540000" cy="5763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35280" y="5661000"/>
            <a:ext cx="541080" cy="57636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661000"/>
            <a:ext cx="54000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32360" y="5661000"/>
            <a:ext cx="53964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5661000"/>
            <a:ext cx="504720" cy="57636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76720" y="5661000"/>
            <a:ext cx="54000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7640" y="5661000"/>
            <a:ext cx="54000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7640" y="5661000"/>
            <a:ext cx="541080" cy="5745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08720" y="5661000"/>
            <a:ext cx="503280" cy="57636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812000" y="5661000"/>
            <a:ext cx="57636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9280" y="5121360"/>
            <a:ext cx="16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 Е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5049720"/>
            <a:ext cx="21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К  Н 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64360" y="50133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Л  А   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5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448000" y="2852640"/>
          <a:ext cx="4186080" cy="3651120"/>
        </p:xfrm>
        <a:graphic>
          <a:graphicData uri="http://schemas.openxmlformats.org/drawingml/2006/table">
            <a:tbl>
              <a:tblPr/>
              <a:tblGrid>
                <a:gridCol w="262080"/>
                <a:gridCol w="288720"/>
                <a:gridCol w="287280"/>
                <a:gridCol w="324000"/>
                <a:gridCol w="360360"/>
                <a:gridCol w="360360"/>
                <a:gridCol w="395280"/>
                <a:gridCol w="396720"/>
                <a:gridCol w="360360"/>
                <a:gridCol w="395280"/>
                <a:gridCol w="397080"/>
                <a:gridCol w="358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863640" y="512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по клеточ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3640" y="512640"/>
            <a:ext cx="576360" cy="468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63640" y="476280"/>
            <a:ext cx="32400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64000" y="4905360"/>
            <a:ext cx="10800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9280" y="1413000"/>
            <a:ext cx="46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0328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50920" y="12682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9236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40000" y="12682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1164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9564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000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92720" y="1233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31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04256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72692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41092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095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70800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427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111640" y="1699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56360" y="1881360"/>
            <a:ext cx="46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904000" y="1699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192720" y="1665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600360" y="5336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600360" y="504936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7640" y="4976640"/>
            <a:ext cx="289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94920" y="4976640"/>
            <a:ext cx="289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19640" y="5300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19640" y="501336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19640" y="5589720"/>
            <a:ext cx="396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50560" y="558972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48360" y="5589720"/>
            <a:ext cx="396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71280" y="558972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558972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35564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78764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18436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50836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23820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63492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95892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276720" y="5552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6000" y="562464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6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184464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, 46, 49 стр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511280" y="981000"/>
            <a:ext cx="6085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>
                        <a:alpha val="50196"/>
                      </a:srgbClr>
                    </a:gs>
                    <a:gs pos="50000">
                      <a:srgbClr val="a603ab"/>
                    </a:gs>
                    <a:gs pos="100000">
                      <a:srgbClr val="a603ab">
                        <a:alpha val="50196"/>
                      </a:srgbClr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урок!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>
                      <a:alpha val="50196"/>
                    </a:srgbClr>
                  </a:gs>
                  <a:gs pos="50000">
                    <a:srgbClr val="a603ab"/>
                  </a:gs>
                  <a:gs pos="100000">
                    <a:srgbClr val="a603ab">
                      <a:alpha val="50196"/>
                    </a:srgbClr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800360" y="184464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50920" y="1125360"/>
            <a:ext cx="867708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У каждого ученика на столе карточки (зеленая, желтая, красная). Уходя из класса, нужно оставить на столе учителя одну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еленая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- Я удовлетворен уроком, урок был полезен для меня, я много, с пользой работал на уроке получил заслуженную оценку, я понимал все, о чем говорилось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Желтая</a:t>
            </a:r>
            <a:r>
              <a:rPr b="1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- Урок был интересен, я принимал в нем активное участие, урок был в определенной степени полезен для меня, я отвечал с места, я сумел выполнить ряд заданий, мне было на уроке достаточно комфор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ая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- Пользы от урока я получил мало, я не очень понимал, о чем идет речь, мне это не очень нужно, домашнее задание я не буду выполнять, к ответам на уроке я не был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6836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07:19:18Z</dcterms:created>
  <dc:creator>122</dc:creator>
  <dc:description/>
  <dc:language>en-US</dc:language>
  <cp:lastModifiedBy>122</cp:lastModifiedBy>
  <dcterms:modified xsi:type="dcterms:W3CDTF">2011-02-25T21:53:16Z</dcterms:modified>
  <cp:revision>13</cp:revision>
  <dc:subject/>
  <dc:title>Слайд 1</dc:title>
</cp:coreProperties>
</file>